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7CB8-D9E8-4D9F-B7F7-24196667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CEE4-C36C-4015-B7DE-CE209313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4F0D-3545-4B3E-A191-85C45598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3256-98B2-4140-8C3A-B2A2839D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A106-DE5E-48C4-8466-AD4D5507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B11B-FB08-4CA3-BD7E-0C5A2FC1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64E7-54A2-4F39-BAC7-94BF102F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460F-F415-487E-80E0-3B53951C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11C6-4D92-47EA-8823-0E74143D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F103-915C-49E8-A4C0-E8355D8E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9D59-E17F-4CDD-8A7E-0A309BB8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905A-8105-47F1-9788-94DBBF4D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ffcc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4EA8-A8CA-457C-BA47-2F54E48166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9"/>
          <p:cNvSpPr txBox="1"/>
          <p:nvPr/>
        </p:nvSpPr>
        <p:spPr>
          <a:xfrm>
            <a:off x="914400" y="-762120"/>
            <a:ext cx="7238880" cy="5257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d60093"/>
                </a:solidFill>
                <a:latin typeface="Georgia"/>
              </a:rPr>
              <a:t>УЛЫБКА</a:t>
            </a:r>
            <a:endParaRPr b="1" lang="en-US" sz="9600" spc="1" strike="noStrike">
              <a:ln w="9360">
                <a:solidFill>
                  <a:srgbClr val="660066"/>
                </a:solidFill>
                <a:miter/>
              </a:ln>
              <a:solidFill>
                <a:srgbClr val="d60093"/>
              </a:solidFill>
              <a:latin typeface="Georgia"/>
              <a:ea typeface="Georgia"/>
            </a:endParaRPr>
          </a:p>
        </p:txBody>
      </p:sp>
      <p:sp>
        <p:nvSpPr>
          <p:cNvPr id="42" name="Text Box 20"/>
          <p:cNvSpPr/>
          <p:nvPr/>
        </p:nvSpPr>
        <p:spPr>
          <a:xfrm>
            <a:off x="1295280" y="5410080"/>
            <a:ext cx="6782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МУЗЫКА   В. ШАИНСКОГО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СТИХИ   М. ПЛЯЦКОВСКОГО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43" name="Picture 21" descr="Саша"/>
          <p:cNvPicPr/>
          <p:nvPr/>
        </p:nvPicPr>
        <p:blipFill>
          <a:blip r:embed="rId1"/>
          <a:stretch/>
        </p:blipFill>
        <p:spPr>
          <a:xfrm>
            <a:off x="3657600" y="304920"/>
            <a:ext cx="1925640" cy="2819160"/>
          </a:xfrm>
          <a:prstGeom prst="rect">
            <a:avLst/>
          </a:prstGeom>
          <a:ln w="0">
            <a:noFill/>
          </a:ln>
        </p:spPr>
      </p:pic>
      <p:pic>
        <p:nvPicPr>
          <p:cNvPr id="44" name="Улыбка (-).mp3" descr=""/>
          <p:cNvPicPr/>
          <p:nvPr/>
        </p:nvPicPr>
        <p:blipFill>
          <a:blip r:embed="rId2"/>
          <a:stretch/>
        </p:blipFill>
        <p:spPr>
          <a:xfrm>
            <a:off x="8305920" y="60958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9"/>
          <p:cNvSpPr/>
          <p:nvPr/>
        </p:nvSpPr>
        <p:spPr>
          <a:xfrm>
            <a:off x="1093680" y="2514600"/>
            <a:ext cx="6964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От улыбки хмурый день светлей,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От улыбки в небе радуга проснётся.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Поделись улыбкою своей. 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И она к тебе не раз ещё вернётся.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46" name="Picture 13" descr="POTGOLDBG"/>
          <p:cNvPicPr/>
          <p:nvPr/>
        </p:nvPicPr>
        <p:blipFill>
          <a:blip r:embed="rId1"/>
          <a:stretch/>
        </p:blipFill>
        <p:spPr>
          <a:xfrm>
            <a:off x="3657600" y="609480"/>
            <a:ext cx="17859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8"/>
          <p:cNvSpPr/>
          <p:nvPr/>
        </p:nvSpPr>
        <p:spPr>
          <a:xfrm>
            <a:off x="478800" y="1524240"/>
            <a:ext cx="8222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И тогда наверняка вдруг запляшут облака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И кузнечик запиликает на скрипке.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С голубого ручейка начинается река,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Ну, а дружба начинается с улыбки. 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С голубого ручейка начинается река,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Ну, а дружба начинается с улыбки.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48" name="Picture 21" descr="AG00315_"/>
          <p:cNvPicPr/>
          <p:nvPr/>
        </p:nvPicPr>
        <p:blipFill>
          <a:blip r:embed="rId1"/>
          <a:stretch/>
        </p:blipFill>
        <p:spPr>
          <a:xfrm>
            <a:off x="3886200" y="4572000"/>
            <a:ext cx="153036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0880" y="2529000"/>
            <a:ext cx="892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От улыбки солнечной одной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Перестанет плакать самый грустный дождик.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Сонный лес простится с тишиной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И захлопает в зелёные ладоши.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50" name="Picture 6" descr="СОЛНЫШКО"/>
          <p:cNvPicPr/>
          <p:nvPr/>
        </p:nvPicPr>
        <p:blipFill>
          <a:blip r:embed="rId1"/>
          <a:stretch/>
        </p:blipFill>
        <p:spPr>
          <a:xfrm>
            <a:off x="4038480" y="6858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angel2"/>
          <p:cNvPicPr/>
          <p:nvPr/>
        </p:nvPicPr>
        <p:blipFill>
          <a:blip r:embed="rId1"/>
          <a:stretch/>
        </p:blipFill>
        <p:spPr>
          <a:xfrm>
            <a:off x="3962520" y="1066680"/>
            <a:ext cx="1234800" cy="8575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478800" y="2286360"/>
            <a:ext cx="8222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И тогда наверняка вдруг запляшут облака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И кузнечик запиликает на скрипке.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С голубого ручейка начинается река,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Ну, а дружба начинается с улыбки. 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С голубого ручейка начинается река,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Ну, а дружба начинается с улыбки.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782640" y="2514600"/>
            <a:ext cx="756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От улыбки станет всем теплей –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И слону, и даже маленькой улитке.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Так пускай повсюду на земле. 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Будто лампочки, включаются улыбки!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54" name="Picture 5" descr="colec22"/>
          <p:cNvPicPr/>
          <p:nvPr/>
        </p:nvPicPr>
        <p:blipFill>
          <a:blip r:embed="rId1"/>
          <a:stretch/>
        </p:blipFill>
        <p:spPr>
          <a:xfrm>
            <a:off x="609480" y="4800600"/>
            <a:ext cx="5229360" cy="10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little_orange_guy"/>
          <p:cNvPicPr/>
          <p:nvPr/>
        </p:nvPicPr>
        <p:blipFill>
          <a:blip r:embed="rId1"/>
          <a:stretch/>
        </p:blipFill>
        <p:spPr>
          <a:xfrm>
            <a:off x="3733920" y="838080"/>
            <a:ext cx="1900080" cy="12844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478800" y="2438640"/>
            <a:ext cx="8222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И тогда наверняка вдруг запляшут облака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И кузнечик запиликает на скрипке.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С голубого ручейка начинается река,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Ну, а дружба начинается с улыбки. 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С голубого ручейка начинается река,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Ну, а дружба начинается с улыбки.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19"/>
          <p:cNvSpPr txBox="1"/>
          <p:nvPr/>
        </p:nvSpPr>
        <p:spPr>
          <a:xfrm>
            <a:off x="914400" y="-762120"/>
            <a:ext cx="7238880" cy="5257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d60093"/>
                </a:solidFill>
                <a:latin typeface="Georgia"/>
              </a:rPr>
              <a:t>УЛЫБКА</a:t>
            </a:r>
            <a:endParaRPr b="1" lang="en-US" sz="9600" spc="1" strike="noStrike">
              <a:ln w="9360">
                <a:solidFill>
                  <a:srgbClr val="660066"/>
                </a:solidFill>
                <a:miter/>
              </a:ln>
              <a:solidFill>
                <a:srgbClr val="d60093"/>
              </a:solidFill>
              <a:latin typeface="Georgia"/>
              <a:ea typeface="Georgia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1295280" y="5410080"/>
            <a:ext cx="6782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МУЗЫКА   В. ШАИНСКОГО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Georgia"/>
              </a:rPr>
              <a:t>СТИХИ   М. ПЛЯЦКОВСКОГО</a:t>
            </a:r>
            <a:endParaRPr b="1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59" name="Picture 21" descr="Саша"/>
          <p:cNvPicPr/>
          <p:nvPr/>
        </p:nvPicPr>
        <p:blipFill>
          <a:blip r:embed="rId1"/>
          <a:stretch/>
        </p:blipFill>
        <p:spPr>
          <a:xfrm>
            <a:off x="3657600" y="304920"/>
            <a:ext cx="1925640" cy="28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алецких Е.В.</dc:creator>
  <dc:description/>
  <dc:language>en-US</dc:language>
  <cp:lastModifiedBy>Палецких Елена</cp:lastModifiedBy>
  <dcterms:modified xsi:type="dcterms:W3CDTF">2012-01-02T13:35:07Z</dcterms:modified>
  <cp:revision>45</cp:revision>
  <dc:subject/>
  <dc:title>Улыб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